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BC6F-78D5-4290-8D41-77B8437E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7E51-9AF4-46C7-8FEE-6A469828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3CE6-FEB2-4BE3-B61B-9C91B6D0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6B33-237E-420B-85E5-7730A4FB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A96E-F7B7-416D-9222-3FCAAE96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1878-0E47-4ED1-8305-EC13FD25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92C7-C941-4865-AC75-FBFFBFE7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CDD6-A968-487F-915C-31E16A97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3D02-F639-4432-8AE9-7A54106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054C-44E0-40E6-97F5-4A6C0B0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5D17-6E46-483F-ABB5-EDE7F733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D897-393A-4CB4-BD5F-02B100F3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6EC-FEAE-4143-8049-C9F4471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9A6E-A11C-4A38-82D2-6AF48B1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60EB-A821-487C-B6EA-0A38FDD7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4819-A038-4662-9404-2306E3AD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BF9A-53EA-4A0F-B678-528B1524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0DB0-5AFC-4579-8CBF-29F619DC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0480-4943-4EC5-A2D3-7606B8F5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0CD5-B3C1-4FB8-AD49-98038B5A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FF74-BD8A-413A-9183-A8A184A4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8F3A-1320-4D3A-8FF1-80D66CF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9F4C-BAC5-4963-930C-AAAA3ABE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4420-06C0-442E-B8ED-7DB183B8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F4A5-AE7F-4B8E-BE2C-96C70DCB9DC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A7D2-1D62-4CF5-8552-406567981D6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7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9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29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Моите стъпки отправ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ли Отче, в Твоя пъ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еха ме избав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войта истина и съд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31000"/>
            <a:ext cx="957744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о с победен ви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итна аз с небесний ли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запея нова п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ангелски ези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720440"/>
            <a:ext cx="95774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Светии гълъб от не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представител Христов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 изпълни туй сърц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мир и радост, и люб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31000"/>
            <a:ext cx="957744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о с победен ви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итна аз с небесний ли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запея нова п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ангелски ези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42760"/>
            <a:ext cx="957744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Буря в мен смълчана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агове ще побед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небесния пок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е Той ще наслад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31000"/>
            <a:ext cx="957744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о с победен ви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итна аз с небесний ли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запея нова п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ангелски ези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9-12T07:55:56Z</dcterms:modified>
  <cp:revision>125</cp:revision>
  <dc:subject/>
  <dc:title>Slide 1</dc:title>
</cp:coreProperties>
</file>